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760C-B2D1-456E-86DD-30C353A31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66E1-2F86-425F-806E-4B9A3EB7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3082-AEFE-447E-8FF0-1D4E1897F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200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592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200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592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467F-85CC-4322-A585-9DE26D565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606B3-5DC6-47F0-AD96-80D989B9C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B0A1-904E-4A82-BF50-DF52B60D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DF67-D56A-46D6-B96D-5BF92A08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1A11-1373-4AD5-94FE-F5745A92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8AE3-B5E0-4F97-8639-8B7EF446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7720" y="-360"/>
            <a:ext cx="57913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6303-B065-4683-A945-FCAC4A61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81F9-C0F9-48F6-B232-B8B49134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DDCB-2EC3-4314-ADA1-7B30BD92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086F-1EF2-4959-818A-A1EB08DD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5099-7536-45A4-A325-6CBFB5C6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682C-1739-47E0-BB22-0C1F3438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D26B-03F1-419E-9ED7-D384DA5B2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9200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4592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808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9200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4592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16C54-4568-43E3-A79B-5274010EC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EA22E-FF5D-4170-A89C-851A65AD7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31EFC-6103-4875-8FC5-778C7A5F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7099B-70F1-4131-AF3E-A087D425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3C677-D991-4E76-9B2C-979B6BED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B77B8-D62C-48CD-BAB9-7165D4F3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F5D4-ABD7-441C-8CB1-3A04631D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37720" y="-360"/>
            <a:ext cx="57913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00A18-467F-46FB-B32F-E791B4E9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65E64-4BF7-4A12-A756-EE1ADCAD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01D71-5728-43D5-8841-D832EADE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1C03F-FA5C-425F-BA4D-195D605C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9059D-ABD5-4340-8B8C-75BC6AC3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C2301-50FA-4E37-835E-EA8662AC3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49200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4592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3808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49200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4592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9C599-11FD-49D9-A46E-30C414AE8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386B-16DC-41BB-94AE-46AE320F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30B4-2610-401B-9714-FCD26063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7720" y="-360"/>
            <a:ext cx="57913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7921-570D-478F-BB53-D6D221F5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9D39-91AF-4A76-B368-AD07F43C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364D-9243-48C9-A9B4-F8071DDE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E8F6-D85C-4420-8DB3-1A147CAE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odstran-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57f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4182-91B6-44EE-B085-D15D99EE4ABD}" type="datetime">
              <a:rPr b="0" lang="sl-SI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dedi.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320" y="1519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CD02-1A23-46BB-B633-621E10DF1F59}" type="slidenum">
              <a:rPr b="0" lang="sl-S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odstran-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naslovnica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57f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D471-E649-4B0E-A1A8-0EFB0B786E4A}" type="datetime">
              <a:rPr b="0" lang="sl-SI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dedi.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781320" y="1519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4D1E-77AC-4042-912C-9AC57D36E6BA}" type="slidenum">
              <a:rPr b="0" lang="sl-S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podstran-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podstran-blank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57f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7E79-BBBE-4067-A0F3-0B6C47150ECC}" type="datetime">
              <a:rPr b="0" lang="sl-SI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172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dedi.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781320" y="1519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50B8-8620-476A-A01A-65BEF499996A}" type="slidenum">
              <a:rPr b="0" lang="sl-S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190760"/>
            <a:ext cx="777240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440" y="525780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63832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502920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848720" cy="4191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61760" y="1600200"/>
            <a:ext cx="3733560" cy="4525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365760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534680"/>
            <a:ext cx="3659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7720" y="2174760"/>
            <a:ext cx="36594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36608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3660840" cy="3951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218960"/>
            <a:ext cx="266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504960" y="1219320"/>
            <a:ext cx="5181480" cy="49068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266724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04760" y="4800600"/>
            <a:ext cx="52578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905120" y="837720"/>
            <a:ext cx="5254560" cy="39402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904760" y="5367240"/>
            <a:ext cx="52578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5T19:05:15Z</dcterms:created>
  <dc:creator>Natasa</dc:creator>
  <dc:description/>
  <dc:language>en-US</dc:language>
  <cp:lastModifiedBy>Miha Burgar</cp:lastModifiedBy>
  <dcterms:modified xsi:type="dcterms:W3CDTF">2009-12-05T19:17:29Z</dcterms:modified>
  <cp:revision>22</cp:revision>
  <dc:subject/>
  <dc:title>Slide 1</dc:title>
</cp:coreProperties>
</file>