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628E-09A2-4EB1-A109-5AE1A5A46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0F27-F7BC-4C2E-A062-F948EA28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9613-5C80-457B-A763-0560BC1BA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200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592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200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592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4C48-3C16-497C-AC3E-8223B70FA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97F36-1B7B-45B9-BF17-85BE911D8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039FC-80AC-4D97-ADBC-CD4ED716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21421-0792-4BF2-80E9-0C6959A4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3FCA-311F-48FA-B151-620F4A27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EBBB-02E3-4102-87C6-F9BC6ACE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7720" y="-360"/>
            <a:ext cx="57913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B05A-B8BD-4811-9EFE-48A7FFA3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21AA-8A97-4CA9-B5BC-D018A10D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0417-F1E8-4C05-8283-E776A55C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8348B-CFDB-4C78-BBB4-1728D224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3713-49C8-4F95-A278-047E3984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92669-B5A4-46E1-9F08-C0D479AA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EAF9-427D-4EDA-81D8-44DEFAFB3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9200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4592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808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9200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4592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0FD8-F8AB-4F4F-B6FA-01D15D408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16C0D-F802-4663-9D95-6F4153660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E7DB4-EE7A-46FC-AD3D-6B26CC89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3E555-6AE4-4D8B-89CE-6FB96BE2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C9C29-5FA5-45F5-9A7C-073A6367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FEF3F-1EBE-44F9-AEA3-BFEA265E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C7DB-8E9F-4514-AA08-FC5DC9E6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37720" y="-360"/>
            <a:ext cx="57913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D0B01-08FE-4BF8-9326-5BDFA52B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3356F-F0D5-4C7D-8747-3F4C4CB4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CEBA0-B596-48BF-ABD3-D001B8DB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880AB-07AD-4B97-A1DF-75A283AC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C3892-04ED-4C37-8C91-C972A7C0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16283-83B9-4A73-B4D2-F939A03A2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49200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4592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3808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49200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4592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B453A-D692-4FB8-9C8B-D7C2D6114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DA26-4001-47BB-AB15-BDE577FF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F522-58DB-4D21-87D8-5C8643A9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7720" y="-360"/>
            <a:ext cx="57913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8B23-6328-4836-A8A7-5D3BCBA7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808E-D074-40D4-B43B-56E6DE16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D9B2-3748-47FE-BF5C-AFECE271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0A69-617A-40F3-8315-9A47EE47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odstran-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57f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2CC9-B93A-4E4B-AF9C-81B966A2450E}" type="datetime">
              <a:rPr b="0" lang="sl-SI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dedi.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320" y="1519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F6F2-C959-4D6D-85E6-160734654514}" type="slidenum">
              <a:rPr b="0" lang="sl-S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odstran-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naslovnica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57f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8138-0450-418B-93CC-5BAE90C895A1}" type="datetime">
              <a:rPr b="0" lang="sl-SI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dedi.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781320" y="1519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96E3-B0CB-417E-85E3-16449C74CBD8}" type="slidenum">
              <a:rPr b="0" lang="sl-S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podstran-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podstran-blank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57f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2BDB-474D-41BC-856C-1AF74E874C55}" type="datetime">
              <a:rPr b="0" lang="sl-SI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172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dedi.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781320" y="1519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477D-CC6D-40DC-829D-5ED1D940A31D}" type="slidenum">
              <a:rPr b="0" lang="sl-S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190760"/>
            <a:ext cx="777240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440" y="525780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63832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502920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848720" cy="4191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61760" y="1600200"/>
            <a:ext cx="3733560" cy="4525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365760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534680"/>
            <a:ext cx="3659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7720" y="2174760"/>
            <a:ext cx="36594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36608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3660840" cy="3951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218960"/>
            <a:ext cx="266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504960" y="1219320"/>
            <a:ext cx="5181480" cy="49068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266724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04760" y="4800600"/>
            <a:ext cx="52578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905120" y="837720"/>
            <a:ext cx="5254560" cy="39402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904760" y="5367240"/>
            <a:ext cx="52578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5T19:05:15Z</dcterms:created>
  <dc:creator>Natasa</dc:creator>
  <dc:description/>
  <dc:language>en-US</dc:language>
  <cp:lastModifiedBy>Miha Burgar</cp:lastModifiedBy>
  <dcterms:modified xsi:type="dcterms:W3CDTF">2009-12-05T19:17:29Z</dcterms:modified>
  <cp:revision>22</cp:revision>
  <dc:subject/>
  <dc:title>Slide 1</dc:title>
</cp:coreProperties>
</file>