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37F-0C1E-45C8-B83A-F24F7750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5C94-DAB4-4145-9658-33D7F92C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FC7-3FA8-49DA-950B-4F0496B0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648-C5C2-4745-8525-9C639C8E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31E8-D8F2-4D0C-B0BD-C6CC8C74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6A04-8320-458C-8382-21BB5EAE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AB1F-72EA-4250-9FBE-7423BC48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856C-D073-4F26-BD6D-BDF03E5C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2283-4865-4768-B850-EDB59213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9629-DFA5-4FB4-A53B-6A05C9DA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9B2B-9FD2-4668-9E3B-68FC54BA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90C-7429-4DF1-9491-910F4338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038B-BE50-42AC-AD00-0EDE4275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54E9-24C6-44D1-BF59-DC89188F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50AF-12EC-40BC-978B-BE507D9B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2A2C-DC7F-440F-890E-FDD31A51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E8D7-4C12-413F-9E26-33C292B8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D7CAB-6769-44F4-AC3E-8B6AC107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7DA07-B891-4566-B057-7CBE23E7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5B672-CBD4-432C-88EE-60018F4D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12B50-5CA7-4B89-83D8-67B8B33A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11482-097B-4B99-A182-9C622061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7D7-C645-49B5-BA78-E759246A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35F90-005A-4C78-80A2-255CCF6F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422EE-225B-47D7-83B9-5DB97EEE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B6A2F-3496-4392-9F9D-145390AC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3ACC3-D85B-42FE-9926-D9651AD8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F1B94-4C3E-4CEC-85BA-82E3EB57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9B08C-9091-4D72-A9E0-DF5FB2E9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C987E-6D5F-4C9F-BA19-F5AD8712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97D-B1D4-44D8-8E30-1BCDBE15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4E3-8CA4-4D0A-8D0F-45173F6A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E17-C223-43A2-8955-FFDB5C7E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20C0-4032-4385-96B4-0B86549D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8DA7-601E-4F79-8F3A-9A287F4F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BEA4-9D7A-4942-9056-725523E5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9306-6747-490F-97D8-34A3F323CC9F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0B46-D6ED-4E25-A3C6-EF8ECCB01E25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naslovnic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6554-B002-49E6-A49E-E4A80BF62CF4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5379-8C08-47D6-BB45-A1A0FF023ACE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podstran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5BD2-553C-4E03-8C5F-8B7C9019BCD9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21F2-89DE-4887-991C-043449A90052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52578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63832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84872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1760" y="1600200"/>
            <a:ext cx="373356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657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534680"/>
            <a:ext cx="3659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2174760"/>
            <a:ext cx="3659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366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3660840" cy="39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266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04960" y="1219320"/>
            <a:ext cx="5181480" cy="4906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66724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4800600"/>
            <a:ext cx="5257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837720"/>
            <a:ext cx="5254560" cy="3940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4760" y="5367240"/>
            <a:ext cx="5257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9:05:15Z</dcterms:created>
  <dc:creator>Natasa</dc:creator>
  <dc:description/>
  <dc:language>en-US</dc:language>
  <cp:lastModifiedBy>Miha Burgar</cp:lastModifiedBy>
  <dcterms:modified xsi:type="dcterms:W3CDTF">2009-12-05T19:17:29Z</dcterms:modified>
  <cp:revision>22</cp:revision>
  <dc:subject/>
  <dc:title>Slide 1</dc:title>
</cp:coreProperties>
</file>