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5DA-1C38-48EA-BF76-42B03D11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633-EDFF-424E-82F4-88B89667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3CD-9888-4F96-86E6-064CF30E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CB3-3E05-447E-9C7E-FA4D805C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8DDD-C487-442C-A706-BD4531FB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AD42-6AFF-4189-AE8D-62EFAC2B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CE35-1B6C-4524-A791-A1CABE8D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07F3-69A2-4277-A54F-446D26AA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0FB3-360E-4CB6-9157-24672D27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BDFE-D82D-4DB9-89CE-78013560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72EE-4A82-45B4-8157-EF3BE650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5991-1917-4688-937C-C6C4E781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0B9E-18C7-4BC9-A1FF-DDD6A505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4ACA-14B1-44FD-BA21-0A6FDFAD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3948-A644-4DC9-A5E3-4BE35197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55E8-5DE6-402E-92EA-73089DC5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BAEB-BD9B-48B7-906E-A58E577D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4245-CBB3-4AE3-9523-78128013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3072-AFAF-4F06-A4AA-D731C177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AAD98-CB85-48EE-ADF0-DCD5BA56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F087-E732-41B9-9A0E-65CCC8E8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CF1C-BE73-4FCF-9E92-B7AE7192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31C-1FF3-48D2-88FA-20630E46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44D83-F157-4CBC-91D7-5FB0D443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A104-5190-4DDC-97E7-C9840D40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11A2-94D6-4692-99F8-8572BDD6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320F-4D50-40FB-BDD4-23484CD4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13B7-B5B7-4793-B9BB-EDCB2D6E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1398-FC42-4451-B041-C3E043C5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920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9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F8C2-DE19-4848-9A38-987EE138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0A9-5C2B-4E72-A74E-F106EDB3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930-36B9-4299-8715-284F432D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-360"/>
            <a:ext cx="579132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30D-4513-44DF-94AE-E1772D8C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592-837B-4C85-8CB3-0E45995E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600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060-AD74-4661-A85D-63C7209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711-ACA0-49F6-AD53-E8DB797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11A5-B598-4570-A39C-0BD60026E76F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68BB-F228-409D-849E-2F929E175C95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naslovnic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9740-A8CA-4D42-812D-E3A243DE34DF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5055-84FE-4051-A412-45B2F7EADC8C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dstran-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odstran-blank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57f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57f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1D65-2B91-453F-915B-A533CA6D2B73}" type="datetime">
              <a:rPr b="0" lang="sl-S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dedi.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320" y="1519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5DBA-CC18-4532-893B-50A0BE8B353D}" type="slidenum">
              <a:rPr b="0" lang="sl-S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52578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8320"/>
            <a:ext cx="77724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848720" cy="4191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1760" y="1600200"/>
            <a:ext cx="373356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3657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534680"/>
            <a:ext cx="3659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174760"/>
            <a:ext cx="36594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7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366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3660840" cy="395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5791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266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04960" y="1219320"/>
            <a:ext cx="5181480" cy="4906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266724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4800600"/>
            <a:ext cx="52578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837720"/>
            <a:ext cx="5254560" cy="39402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5367240"/>
            <a:ext cx="5257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9:05:15Z</dcterms:created>
  <dc:creator>Natasa</dc:creator>
  <dc:description/>
  <dc:language>en-US</dc:language>
  <cp:lastModifiedBy>Miha Burgar</cp:lastModifiedBy>
  <dcterms:modified xsi:type="dcterms:W3CDTF">2009-12-05T19:17:29Z</dcterms:modified>
  <cp:revision>22</cp:revision>
  <dc:subject/>
  <dc:title>Slide 1</dc:title>
</cp:coreProperties>
</file>